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63CB-C4F4-468F-B853-7090B3746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DB05-2D6D-4701-8361-AF9CD5C0B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6CE7-786E-493A-B204-8D0ECF78F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4985-6B79-48AA-B86D-C0627E85C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72EF-1F92-4A81-B5CB-257858BB3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2BF1-C288-4566-A4E4-D7233E4B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D121-66A6-40BB-85B1-04D440FCD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012A-78EE-4B0B-B980-2FF0B941F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F890-2370-445F-9842-87B0A77E4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8CF2-2E2A-44B0-8AEF-1C64FBA00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7097-4B10-4B56-8462-3B8EBD936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8ACA-CF91-43B6-8F1E-AD1501FD1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F419-EA9C-41DD-9F2F-6615EB0A2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DCA9-8B56-4681-8978-9D2600B9F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BD2A-9F2D-4282-9A24-29E075763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F2DE-E28F-40C1-9206-76B65269A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B53A-D65A-4011-9A07-A52D9FFA3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AA7A-84DB-49F9-843A-3CAE697BF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D9A7-D180-4DE1-A520-5F8DDBA04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866E-6AA2-47BF-8B5C-516A7EE17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9200-469C-477F-84CE-23323308E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8404-EE43-4F6E-8767-5AC326EEE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CBEC-DF20-40BD-B377-1D7CC12D6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A894-ED9E-4EB1-9246-F3D6B8633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F971-3284-4B46-A33B-8822A9D1F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F49-07E1-457F-B2CC-7B30AAE4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F6F-3CB9-4C4C-B963-43F0BF3F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2E3-C527-4142-8E84-E27D69C5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DDC-8346-4587-9775-168B8B72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CBF-8329-4637-8F81-6FB8C4E9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81B-A5DC-4A3C-BA9D-21FD20F2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537-3412-4C66-A953-70AC5068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4CD-C4E3-4162-902B-AFFE1F78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CA9-D784-46FF-8195-33C3D45F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436-F729-42A7-A1BB-64C1C0F5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AAF-A482-4421-8A8D-C21256A1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DD7E-364A-4197-ABD2-AAF85FD9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1FFE-47C2-4067-9B6E-267FFBA6B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rane structure and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1" descr="0102a-f"/>
          <p:cNvPicPr/>
          <p:nvPr/>
        </p:nvPicPr>
        <p:blipFill>
          <a:blip r:embed="rId1"/>
          <a:stretch/>
        </p:blipFill>
        <p:spPr>
          <a:xfrm>
            <a:off x="0" y="2209680"/>
            <a:ext cx="4557600" cy="242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1" descr="0102g-k"/>
          <p:cNvPicPr/>
          <p:nvPr/>
        </p:nvPicPr>
        <p:blipFill>
          <a:blip r:embed="rId2"/>
          <a:stretch/>
        </p:blipFill>
        <p:spPr>
          <a:xfrm>
            <a:off x="4557600" y="2209680"/>
            <a:ext cx="4572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rane perme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sma membran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lectively perm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1" descr="0506"/>
          <p:cNvPicPr/>
          <p:nvPr/>
        </p:nvPicPr>
        <p:blipFill>
          <a:blip r:embed="rId1"/>
          <a:stretch/>
        </p:blipFill>
        <p:spPr>
          <a:xfrm>
            <a:off x="88920" y="1708200"/>
            <a:ext cx="8964720" cy="5226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371600" y="3352680"/>
            <a:ext cx="634032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ntrols the flow of substances that can pass freely across the membra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entration grad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ccurs when there is a difference in concentration between two adjacent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572000" y="4191120"/>
            <a:ext cx="0" cy="2514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054080" y="37339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641920" y="36576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1676520" y="4800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1371600" y="50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5562720" y="5257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2438280" y="44197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19051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3200400" y="4572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2743200" y="4800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4"/>
          <p:cNvSpPr/>
          <p:nvPr/>
        </p:nvSpPr>
        <p:spPr>
          <a:xfrm>
            <a:off x="2819520" y="6248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5"/>
          <p:cNvSpPr/>
          <p:nvPr/>
        </p:nvSpPr>
        <p:spPr>
          <a:xfrm>
            <a:off x="3429000" y="6248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6"/>
          <p:cNvSpPr/>
          <p:nvPr/>
        </p:nvSpPr>
        <p:spPr>
          <a:xfrm>
            <a:off x="2133720" y="6248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>
            <a:off x="3809880" y="4572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>
            <a:off x="2209680" y="4495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9"/>
          <p:cNvSpPr/>
          <p:nvPr/>
        </p:nvSpPr>
        <p:spPr>
          <a:xfrm>
            <a:off x="5791320" y="6172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0"/>
          <p:cNvSpPr/>
          <p:nvPr/>
        </p:nvSpPr>
        <p:spPr>
          <a:xfrm>
            <a:off x="6705720" y="4952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>
            <a:off x="2590920" y="5715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2"/>
          <p:cNvSpPr/>
          <p:nvPr/>
        </p:nvSpPr>
        <p:spPr>
          <a:xfrm>
            <a:off x="609480" y="6172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3"/>
          <p:cNvSpPr/>
          <p:nvPr/>
        </p:nvSpPr>
        <p:spPr>
          <a:xfrm>
            <a:off x="685800" y="4800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4"/>
          <p:cNvSpPr/>
          <p:nvPr/>
        </p:nvSpPr>
        <p:spPr>
          <a:xfrm>
            <a:off x="1447920" y="57913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5"/>
          <p:cNvSpPr/>
          <p:nvPr/>
        </p:nvSpPr>
        <p:spPr>
          <a:xfrm>
            <a:off x="2057400" y="57913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6"/>
          <p:cNvSpPr/>
          <p:nvPr/>
        </p:nvSpPr>
        <p:spPr>
          <a:xfrm>
            <a:off x="3886200" y="5410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ntrols the flow of substances that can pass freely across the membra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entration grad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ccurs when there is a different in concentration between two adjacent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4572000" y="4191120"/>
            <a:ext cx="0" cy="2514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054080" y="37339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5641920" y="36576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1676520" y="4800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1371600" y="50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5562720" y="5257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2438280" y="44197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19051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1"/>
          <p:cNvSpPr/>
          <p:nvPr/>
        </p:nvSpPr>
        <p:spPr>
          <a:xfrm>
            <a:off x="3200400" y="4572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2743200" y="4800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3"/>
          <p:cNvSpPr/>
          <p:nvPr/>
        </p:nvSpPr>
        <p:spPr>
          <a:xfrm>
            <a:off x="2819520" y="6248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4"/>
          <p:cNvSpPr/>
          <p:nvPr/>
        </p:nvSpPr>
        <p:spPr>
          <a:xfrm>
            <a:off x="3429000" y="6248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5"/>
          <p:cNvSpPr/>
          <p:nvPr/>
        </p:nvSpPr>
        <p:spPr>
          <a:xfrm>
            <a:off x="2133720" y="6248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6"/>
          <p:cNvSpPr/>
          <p:nvPr/>
        </p:nvSpPr>
        <p:spPr>
          <a:xfrm>
            <a:off x="3809880" y="4572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7"/>
          <p:cNvSpPr/>
          <p:nvPr/>
        </p:nvSpPr>
        <p:spPr>
          <a:xfrm>
            <a:off x="2209680" y="4495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8"/>
          <p:cNvSpPr/>
          <p:nvPr/>
        </p:nvSpPr>
        <p:spPr>
          <a:xfrm>
            <a:off x="5791320" y="6172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9"/>
          <p:cNvSpPr/>
          <p:nvPr/>
        </p:nvSpPr>
        <p:spPr>
          <a:xfrm>
            <a:off x="6705720" y="4952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0"/>
          <p:cNvSpPr/>
          <p:nvPr/>
        </p:nvSpPr>
        <p:spPr>
          <a:xfrm>
            <a:off x="2590920" y="5715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1"/>
          <p:cNvSpPr/>
          <p:nvPr/>
        </p:nvSpPr>
        <p:spPr>
          <a:xfrm>
            <a:off x="609480" y="6172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2"/>
          <p:cNvSpPr/>
          <p:nvPr/>
        </p:nvSpPr>
        <p:spPr>
          <a:xfrm>
            <a:off x="685800" y="4800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3"/>
          <p:cNvSpPr/>
          <p:nvPr/>
        </p:nvSpPr>
        <p:spPr>
          <a:xfrm>
            <a:off x="1447920" y="57913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4"/>
          <p:cNvSpPr/>
          <p:nvPr/>
        </p:nvSpPr>
        <p:spPr>
          <a:xfrm>
            <a:off x="2057400" y="57913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5"/>
          <p:cNvSpPr/>
          <p:nvPr/>
        </p:nvSpPr>
        <p:spPr>
          <a:xfrm>
            <a:off x="3886200" y="5410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ntrols the flow of substances that can pass freely across the membra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>
            <a:off x="4114800" y="5181480"/>
            <a:ext cx="1143000" cy="0"/>
          </a:xfrm>
          <a:prstGeom prst="line">
            <a:avLst/>
          </a:prstGeom>
          <a:ln w="475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4952880" y="2652840"/>
            <a:ext cx="3749760" cy="1557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ces will move down their concentration gradients (from an area of high to low concen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4422600" y="5915160"/>
            <a:ext cx="46674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ovement i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ntrols the flow of substances that can pass freely across the membra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517680" y="1447920"/>
            <a:ext cx="83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-the movement of molecules or ions down a concentration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1" descr="0507"/>
          <p:cNvPicPr/>
          <p:nvPr/>
        </p:nvPicPr>
        <p:blipFill>
          <a:blip r:embed="rId1"/>
          <a:stretch/>
        </p:blipFill>
        <p:spPr>
          <a:xfrm>
            <a:off x="2895480" y="2362320"/>
            <a:ext cx="3240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1" descr="0507"/>
          <p:cNvPicPr/>
          <p:nvPr/>
        </p:nvPicPr>
        <p:blipFill>
          <a:blip r:embed="rId1"/>
          <a:stretch/>
        </p:blipFill>
        <p:spPr>
          <a:xfrm>
            <a:off x="2895480" y="2362320"/>
            <a:ext cx="3240360" cy="4419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ntrols the flow of substances that can pass freely across the membra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17680" y="1447920"/>
            <a:ext cx="83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-the movement of molecules or ions down a concentration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715480" y="3352680"/>
            <a:ext cx="375444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diffusion occ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ntrols the flow of substances that can pass freely across the membra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04920" y="1295280"/>
            <a:ext cx="5197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occurs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s are always in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they col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collide more if they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w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ollisions tend to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of a substance across a membrane does not require energy….. It is consider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ssive trans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1" descr="0507"/>
          <p:cNvPicPr/>
          <p:nvPr/>
        </p:nvPicPr>
        <p:blipFill>
          <a:blip r:embed="rId1"/>
          <a:stretch/>
        </p:blipFill>
        <p:spPr>
          <a:xfrm>
            <a:off x="5599080" y="2209680"/>
            <a:ext cx="3240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ntrols the flow of substances that can pass freely across the membra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517680" y="1660680"/>
            <a:ext cx="83214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quickly a substances diffuses depends on several facto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epness of the concentration grad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0" y="158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things can pass freely across the membrane while others can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1" descr="0506"/>
          <p:cNvPicPr/>
          <p:nvPr/>
        </p:nvPicPr>
        <p:blipFill>
          <a:blip r:embed="rId1"/>
          <a:stretch/>
        </p:blipFill>
        <p:spPr>
          <a:xfrm>
            <a:off x="88920" y="1638360"/>
            <a:ext cx="896472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158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things can pass freely across the membrane while others can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1" descr="0506"/>
          <p:cNvPicPr/>
          <p:nvPr/>
        </p:nvPicPr>
        <p:blipFill>
          <a:blip r:embed="rId1"/>
          <a:stretch/>
        </p:blipFill>
        <p:spPr>
          <a:xfrm>
            <a:off x="88920" y="1638360"/>
            <a:ext cx="8964720" cy="52261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66680" y="2987640"/>
            <a:ext cx="702648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molecules and ions that cannot freely cross the bilayer on their own enter or exit a c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0" y="158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things can pass freely across the membrane while others can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1" descr="0506"/>
          <p:cNvPicPr/>
          <p:nvPr/>
        </p:nvPicPr>
        <p:blipFill>
          <a:blip r:embed="rId1"/>
          <a:stretch/>
        </p:blipFill>
        <p:spPr>
          <a:xfrm>
            <a:off x="88920" y="1638360"/>
            <a:ext cx="8964720" cy="52261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1066680" y="2987640"/>
            <a:ext cx="731520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molecules and ions that cannot freely cross the bilayer on their own enter or exit a c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058480" y="4238640"/>
            <a:ext cx="4863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help of transport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exocytosis and endocy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tructure and function of cellular membra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different entities cross the plasma membr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0" y="1295280"/>
            <a:ext cx="594360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nsport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permeability depends on membrane structure AND presence of transport prot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of transport protein moves a certain molecule across a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types of transport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nel proteins (hydrophilic cha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on channels allow ions to cross the membrane (many are g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rier proteins bind with passenger molecules, change shape and then let the passengers out on the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 molecules and ions that cannot freely cross the bilayer on their own enter and exit a ce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0" descr="07_15FacilitatedDiffusion-U"/>
          <p:cNvPicPr/>
          <p:nvPr/>
        </p:nvPicPr>
        <p:blipFill>
          <a:blip r:embed="rId1"/>
          <a:stretch/>
        </p:blipFill>
        <p:spPr>
          <a:xfrm>
            <a:off x="5506920" y="1752480"/>
            <a:ext cx="363708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0" y="1378080"/>
            <a:ext cx="914400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two kinds of 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1.)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assive Trans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centration gradient drives the diffusion of a substance across a membrane with the assistance of a membrane protein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energy is requi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e. gluc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2.)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ctive 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membrane protein assists in the transportation of a solute against its concentration grad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cells to maintain different internal condi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highered.mcgraw-hill.com/sites/0072495855/student_view0/chapter2/animation__how_the_sodium_potassium_pump_work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 molecules and ions that cannot freely cross the bilayer on their own enter and exit a ce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0" y="1295280"/>
            <a:ext cx="914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on active transpor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genic pumps create a membrane potential (electrical potential energy due to a separation of opposite charg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forces drive the passage of ions across a membrane: concentration gradient and charge (electrochemical gradi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 molecules and ions that cannot freely cross the bilayer on their own enter and exit a ce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07_18ElectrogenicPump-U"/>
          <p:cNvPicPr/>
          <p:nvPr/>
        </p:nvPicPr>
        <p:blipFill>
          <a:blip r:embed="rId1"/>
          <a:stretch/>
        </p:blipFill>
        <p:spPr>
          <a:xfrm>
            <a:off x="1684440" y="3200400"/>
            <a:ext cx="5783040" cy="36576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4724280" y="3276720"/>
            <a:ext cx="284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UI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5889600" y="3962520"/>
            <a:ext cx="434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6216480" y="4465800"/>
            <a:ext cx="489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743440" y="5181480"/>
            <a:ext cx="428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3789360" y="4599000"/>
            <a:ext cx="11872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on pum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5187960" y="4003560"/>
            <a:ext cx="135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5300640" y="5234040"/>
            <a:ext cx="135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6665760" y="5486400"/>
            <a:ext cx="420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5683320" y="6172200"/>
            <a:ext cx="488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5235480" y="5773680"/>
            <a:ext cx="1335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122800" y="6402240"/>
            <a:ext cx="135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2565360" y="4770360"/>
            <a:ext cx="406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3325680" y="3363840"/>
            <a:ext cx="135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3430440" y="3916440"/>
            <a:ext cx="1335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3511440" y="5210280"/>
            <a:ext cx="135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3438360" y="5749920"/>
            <a:ext cx="135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4"/>
          <p:cNvSpPr/>
          <p:nvPr/>
        </p:nvSpPr>
        <p:spPr>
          <a:xfrm>
            <a:off x="2438280" y="3886200"/>
            <a:ext cx="727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1752480" y="6066000"/>
            <a:ext cx="1981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3335400" y="6377040"/>
            <a:ext cx="135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passive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1371600" y="1676520"/>
            <a:ext cx="6553080" cy="4800600"/>
            <a:chOff x="1371600" y="1676520"/>
            <a:chExt cx="6553080" cy="4800600"/>
          </a:xfrm>
        </p:grpSpPr>
        <p:pic>
          <p:nvPicPr>
            <p:cNvPr id="227" name="Picture 5" descr="07_17PassiveActiveTrans-U"/>
            <p:cNvPicPr/>
            <p:nvPr/>
          </p:nvPicPr>
          <p:blipFill>
            <a:blip r:embed="rId1"/>
            <a:stretch/>
          </p:blipFill>
          <p:spPr>
            <a:xfrm>
              <a:off x="1371600" y="1676520"/>
              <a:ext cx="655308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6"/>
            <p:cNvSpPr/>
            <p:nvPr/>
          </p:nvSpPr>
          <p:spPr>
            <a:xfrm>
              <a:off x="2523600" y="1685520"/>
              <a:ext cx="19314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assive transpor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7"/>
            <p:cNvSpPr/>
            <p:nvPr/>
          </p:nvSpPr>
          <p:spPr>
            <a:xfrm rot="16213200">
              <a:off x="3286800" y="19800"/>
              <a:ext cx="198000" cy="3861000"/>
            </a:xfrm>
            <a:custGeom>
              <a:avLst/>
              <a:gdLst>
                <a:gd name="textAreaLeft" fmla="*/ 0 w 198000"/>
                <a:gd name="textAreaRight" fmla="*/ 71280 w 198000"/>
                <a:gd name="textAreaTop" fmla="*/ 100440 h 3861000"/>
                <a:gd name="textAreaBottom" fmla="*/ 3760560 h 386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8"/>
            <p:cNvSpPr/>
            <p:nvPr/>
          </p:nvSpPr>
          <p:spPr>
            <a:xfrm rot="16172400">
              <a:off x="4084200" y="3457080"/>
              <a:ext cx="135360" cy="2224800"/>
            </a:xfrm>
            <a:custGeom>
              <a:avLst/>
              <a:gdLst>
                <a:gd name="textAreaLeft" fmla="*/ 86400 w 135360"/>
                <a:gd name="textAreaRight" fmla="*/ 135720 w 135360"/>
                <a:gd name="textAreaTop" fmla="*/ 57960 h 2224800"/>
                <a:gd name="textAreaBottom" fmla="*/ 2166840 h 222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9"/>
            <p:cNvSpPr/>
            <p:nvPr/>
          </p:nvSpPr>
          <p:spPr>
            <a:xfrm>
              <a:off x="1449000" y="4694040"/>
              <a:ext cx="9838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ffusio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0"/>
            <p:cNvSpPr/>
            <p:nvPr/>
          </p:nvSpPr>
          <p:spPr>
            <a:xfrm>
              <a:off x="3066480" y="4692960"/>
              <a:ext cx="21344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acilitated diffusio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1"/>
            <p:cNvSpPr/>
            <p:nvPr/>
          </p:nvSpPr>
          <p:spPr>
            <a:xfrm>
              <a:off x="5880240" y="1692720"/>
              <a:ext cx="16948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ctive transpor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2"/>
            <p:cNvSpPr/>
            <p:nvPr/>
          </p:nvSpPr>
          <p:spPr>
            <a:xfrm>
              <a:off x="6023160" y="4477680"/>
              <a:ext cx="43308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6"/>
          <p:cNvGrpSpPr/>
          <p:nvPr/>
        </p:nvGrpSpPr>
        <p:grpSpPr>
          <a:xfrm>
            <a:off x="762120" y="228600"/>
            <a:ext cx="7772400" cy="6781680"/>
            <a:chOff x="762120" y="228600"/>
            <a:chExt cx="7772400" cy="6781680"/>
          </a:xfrm>
        </p:grpSpPr>
        <p:pic>
          <p:nvPicPr>
            <p:cNvPr id="236" name="Picture1" descr="0508de"/>
            <p:cNvPicPr/>
            <p:nvPr/>
          </p:nvPicPr>
          <p:blipFill>
            <a:blip r:embed="rId1"/>
            <a:stretch/>
          </p:blipFill>
          <p:spPr>
            <a:xfrm>
              <a:off x="973080" y="304920"/>
              <a:ext cx="7196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Rectangle 5"/>
            <p:cNvSpPr/>
            <p:nvPr/>
          </p:nvSpPr>
          <p:spPr>
            <a:xfrm>
              <a:off x="762120" y="228600"/>
              <a:ext cx="7772400" cy="342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2"/>
          <p:cNvSpPr/>
          <p:nvPr/>
        </p:nvSpPr>
        <p:spPr>
          <a:xfrm>
            <a:off x="0" y="1371600"/>
            <a:ext cx="91440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xocyt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sicle moves to the cell’s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membrane fuses with the plasma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the vesicle are released outside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0" y="272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lk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7"/>
          <p:cNvGrpSpPr/>
          <p:nvPr/>
        </p:nvGrpSpPr>
        <p:grpSpPr>
          <a:xfrm>
            <a:off x="762120" y="3581280"/>
            <a:ext cx="7772400" cy="6705720"/>
            <a:chOff x="762120" y="3581280"/>
            <a:chExt cx="7772400" cy="6705720"/>
          </a:xfrm>
        </p:grpSpPr>
        <p:pic>
          <p:nvPicPr>
            <p:cNvPr id="241" name="Picture1" descr="0508de"/>
            <p:cNvPicPr/>
            <p:nvPr/>
          </p:nvPicPr>
          <p:blipFill>
            <a:blip r:embed="rId1"/>
            <a:stretch/>
          </p:blipFill>
          <p:spPr>
            <a:xfrm>
              <a:off x="973080" y="3581280"/>
              <a:ext cx="7196040" cy="670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4"/>
            <p:cNvSpPr/>
            <p:nvPr/>
          </p:nvSpPr>
          <p:spPr>
            <a:xfrm>
              <a:off x="762120" y="6705720"/>
              <a:ext cx="7772400" cy="342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5"/>
          <p:cNvSpPr/>
          <p:nvPr/>
        </p:nvSpPr>
        <p:spPr>
          <a:xfrm>
            <a:off x="0" y="144792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ndocyt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ces near the cell’s surface are taken into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section of plasma membrane balloons inward and then pin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are now vesicles which are delivered to their destination within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0" y="272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lk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762120" y="3581280"/>
            <a:ext cx="7772400" cy="6705720"/>
            <a:chOff x="762120" y="3581280"/>
            <a:chExt cx="7772400" cy="6705720"/>
          </a:xfrm>
        </p:grpSpPr>
        <p:pic>
          <p:nvPicPr>
            <p:cNvPr id="246" name="Picture1" descr="0508de"/>
            <p:cNvPicPr/>
            <p:nvPr/>
          </p:nvPicPr>
          <p:blipFill>
            <a:blip r:embed="rId1"/>
            <a:stretch/>
          </p:blipFill>
          <p:spPr>
            <a:xfrm>
              <a:off x="973080" y="3581280"/>
              <a:ext cx="7196040" cy="670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4"/>
            <p:cNvSpPr/>
            <p:nvPr/>
          </p:nvSpPr>
          <p:spPr>
            <a:xfrm>
              <a:off x="762120" y="6705720"/>
              <a:ext cx="7772400" cy="342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5"/>
          <p:cNvSpPr/>
          <p:nvPr/>
        </p:nvSpPr>
        <p:spPr>
          <a:xfrm>
            <a:off x="0" y="144792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ndocyt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ces near the cell’s surface are taken into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section of plasma membrane balloons inward and then pin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are now vesicles which are delivered to their destination within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371600" y="2257560"/>
            <a:ext cx="649296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endo and exocytosis involve motor proteins and requir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0" y="272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lk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-home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underst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s are composed of a lipid bi-layer and are selectively perme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active and passive transport and give an example of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57200" y="990720"/>
            <a:ext cx="8221680" cy="5867280"/>
            <a:chOff x="457200" y="990720"/>
            <a:chExt cx="8221680" cy="5867280"/>
          </a:xfrm>
        </p:grpSpPr>
        <p:pic>
          <p:nvPicPr>
            <p:cNvPr id="55" name="Picture1" descr="0502c"/>
            <p:cNvPicPr/>
            <p:nvPr/>
          </p:nvPicPr>
          <p:blipFill>
            <a:blip r:embed="rId1"/>
            <a:stretch/>
          </p:blipFill>
          <p:spPr>
            <a:xfrm>
              <a:off x="457200" y="1066680"/>
              <a:ext cx="8221680" cy="565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6"/>
            <p:cNvSpPr/>
            <p:nvPr/>
          </p:nvSpPr>
          <p:spPr>
            <a:xfrm>
              <a:off x="457200" y="990720"/>
              <a:ext cx="464832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8"/>
          <p:cNvSpPr/>
          <p:nvPr/>
        </p:nvSpPr>
        <p:spPr>
          <a:xfrm>
            <a:off x="365040" y="1266840"/>
            <a:ext cx="458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ll membrane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ly separate a cell from its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what goes in and out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ting the lipid bi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960" y="457200"/>
            <a:ext cx="4190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ll membrane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laced in water, phospholipids form into two lay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the nature of the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ilic (water loving) heads face the outside of th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(water hating) tails are in the int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is the framework of all membran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05_14PhospholipidBilayer-U"/>
          <p:cNvPicPr/>
          <p:nvPr/>
        </p:nvPicPr>
        <p:blipFill>
          <a:blip r:embed="rId1"/>
          <a:stretch/>
        </p:blipFill>
        <p:spPr>
          <a:xfrm>
            <a:off x="4800600" y="3992400"/>
            <a:ext cx="4191120" cy="263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1" descr="0502ab"/>
          <p:cNvPicPr/>
          <p:nvPr/>
        </p:nvPicPr>
        <p:blipFill>
          <a:blip r:embed="rId2"/>
          <a:stretch/>
        </p:blipFill>
        <p:spPr>
          <a:xfrm>
            <a:off x="5715000" y="990720"/>
            <a:ext cx="2824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1" descr="0502ab"/>
          <p:cNvPicPr/>
          <p:nvPr/>
        </p:nvPicPr>
        <p:blipFill>
          <a:blip r:embed="rId1"/>
          <a:stretch/>
        </p:blipFill>
        <p:spPr>
          <a:xfrm>
            <a:off x="5715000" y="990720"/>
            <a:ext cx="2824200" cy="2971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id mosaic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05_14PhospholipidBilayer-U"/>
          <p:cNvPicPr/>
          <p:nvPr/>
        </p:nvPicPr>
        <p:blipFill>
          <a:blip r:embed="rId2"/>
          <a:stretch/>
        </p:blipFill>
        <p:spPr>
          <a:xfrm>
            <a:off x="4800600" y="3992400"/>
            <a:ext cx="4191120" cy="2637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974880" y="2216160"/>
            <a:ext cx="687384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 because most of the components of the cell membrane move laterally within th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1" descr="0502ab"/>
          <p:cNvPicPr/>
          <p:nvPr/>
        </p:nvPicPr>
        <p:blipFill>
          <a:blip r:embed="rId1"/>
          <a:stretch/>
        </p:blipFill>
        <p:spPr>
          <a:xfrm>
            <a:off x="5715000" y="990720"/>
            <a:ext cx="282420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id mosaic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05_14PhospholipidBilayer-U"/>
          <p:cNvPicPr/>
          <p:nvPr/>
        </p:nvPicPr>
        <p:blipFill>
          <a:blip r:embed="rId2"/>
          <a:stretch/>
        </p:blipFill>
        <p:spPr>
          <a:xfrm>
            <a:off x="4800600" y="3992400"/>
            <a:ext cx="4191120" cy="2637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974880" y="3587760"/>
            <a:ext cx="6873840" cy="155700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aic because the membrane contains a mixture of  substances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974880" y="2216160"/>
            <a:ext cx="687384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 because most of the components of the cell membrane move laterally within th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rane proteins and thei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80880" y="142560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types of membrane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l-penetrate the hydrophobic core of the lipid bi-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 span the entir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embedded in the bi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ipheral append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 hidden="1"/>
          <p:cNvSpPr/>
          <p:nvPr/>
        </p:nvSpPr>
        <p:spPr>
          <a:xfrm>
            <a:off x="403200" y="1577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732800" y="7888320"/>
            <a:ext cx="14479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5-5, pp. 80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8"/>
          <p:cNvSpPr/>
          <p:nvPr/>
        </p:nvSpPr>
        <p:spPr>
          <a:xfrm>
            <a:off x="7869240" y="7628040"/>
            <a:ext cx="1216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Stepped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9"/>
          <p:cNvGrpSpPr/>
          <p:nvPr/>
        </p:nvGrpSpPr>
        <p:grpSpPr>
          <a:xfrm>
            <a:off x="63360" y="4152960"/>
            <a:ext cx="1460520" cy="4305240"/>
            <a:chOff x="63360" y="4152960"/>
            <a:chExt cx="1460520" cy="4305240"/>
          </a:xfrm>
        </p:grpSpPr>
        <p:pic>
          <p:nvPicPr>
            <p:cNvPr id="77" name="Picture 30" descr="0505_E"/>
            <p:cNvPicPr/>
            <p:nvPr/>
          </p:nvPicPr>
          <p:blipFill>
            <a:blip r:embed="rId1"/>
            <a:stretch/>
          </p:blipFill>
          <p:spPr>
            <a:xfrm>
              <a:off x="63360" y="4152960"/>
              <a:ext cx="1352520" cy="38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31"/>
            <p:cNvSpPr/>
            <p:nvPr/>
          </p:nvSpPr>
          <p:spPr>
            <a:xfrm>
              <a:off x="152280" y="80917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1b9"/>
                  </a:solidFill>
                  <a:latin typeface="Arial"/>
                </a:rPr>
                <a:t>Adhesion Prote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32"/>
          <p:cNvGrpSpPr/>
          <p:nvPr/>
        </p:nvGrpSpPr>
        <p:grpSpPr>
          <a:xfrm>
            <a:off x="1409760" y="4160880"/>
            <a:ext cx="1487520" cy="4297320"/>
            <a:chOff x="1409760" y="4160880"/>
            <a:chExt cx="1487520" cy="4297320"/>
          </a:xfrm>
        </p:grpSpPr>
        <p:pic>
          <p:nvPicPr>
            <p:cNvPr id="80" name="Picture 33" descr="0505_E copy"/>
            <p:cNvPicPr/>
            <p:nvPr/>
          </p:nvPicPr>
          <p:blipFill>
            <a:blip r:embed="rId2"/>
            <a:stretch/>
          </p:blipFill>
          <p:spPr>
            <a:xfrm>
              <a:off x="1409760" y="4160880"/>
              <a:ext cx="1487520" cy="38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34"/>
            <p:cNvSpPr/>
            <p:nvPr/>
          </p:nvSpPr>
          <p:spPr>
            <a:xfrm>
              <a:off x="1600200" y="8091720"/>
              <a:ext cx="1109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1b9"/>
                  </a:solidFill>
                  <a:latin typeface="Arial"/>
                </a:rPr>
                <a:t>Enzy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35"/>
          <p:cNvGrpSpPr/>
          <p:nvPr/>
        </p:nvGrpSpPr>
        <p:grpSpPr>
          <a:xfrm>
            <a:off x="2819520" y="4148280"/>
            <a:ext cx="2087280" cy="4309920"/>
            <a:chOff x="2819520" y="4148280"/>
            <a:chExt cx="2087280" cy="4309920"/>
          </a:xfrm>
        </p:grpSpPr>
        <p:pic>
          <p:nvPicPr>
            <p:cNvPr id="83" name="Picture 36" descr="0505_E copy 1"/>
            <p:cNvPicPr/>
            <p:nvPr/>
          </p:nvPicPr>
          <p:blipFill>
            <a:blip r:embed="rId3"/>
            <a:stretch/>
          </p:blipFill>
          <p:spPr>
            <a:xfrm>
              <a:off x="2898720" y="4148280"/>
              <a:ext cx="1425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37"/>
            <p:cNvSpPr/>
            <p:nvPr/>
          </p:nvSpPr>
          <p:spPr>
            <a:xfrm>
              <a:off x="2819520" y="8091720"/>
              <a:ext cx="208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1b9"/>
                  </a:solidFill>
                  <a:latin typeface="Arial"/>
                </a:rPr>
                <a:t>Receptor Prote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4329000" y="4156200"/>
            <a:ext cx="1919520" cy="4302000"/>
            <a:chOff x="4329000" y="4156200"/>
            <a:chExt cx="1919520" cy="4302000"/>
          </a:xfrm>
        </p:grpSpPr>
        <p:pic>
          <p:nvPicPr>
            <p:cNvPr id="86" name="Picture 39" descr="0505_E copy 2"/>
            <p:cNvPicPr/>
            <p:nvPr/>
          </p:nvPicPr>
          <p:blipFill>
            <a:blip r:embed="rId4"/>
            <a:stretch/>
          </p:blipFill>
          <p:spPr>
            <a:xfrm>
              <a:off x="4329000" y="4156200"/>
              <a:ext cx="1389240" cy="38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40"/>
            <p:cNvSpPr/>
            <p:nvPr/>
          </p:nvSpPr>
          <p:spPr>
            <a:xfrm>
              <a:off x="4516560" y="8091720"/>
              <a:ext cx="173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1b9"/>
                  </a:solidFill>
                  <a:latin typeface="Arial"/>
                </a:rPr>
                <a:t>Recognition Prote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41"/>
          <p:cNvGrpSpPr/>
          <p:nvPr/>
        </p:nvGrpSpPr>
        <p:grpSpPr>
          <a:xfrm>
            <a:off x="5722920" y="4172040"/>
            <a:ext cx="2201760" cy="4286160"/>
            <a:chOff x="5722920" y="4172040"/>
            <a:chExt cx="2201760" cy="4286160"/>
          </a:xfrm>
        </p:grpSpPr>
        <p:pic>
          <p:nvPicPr>
            <p:cNvPr id="89" name="Picture 42" descr="0505_E copy 3"/>
            <p:cNvPicPr/>
            <p:nvPr/>
          </p:nvPicPr>
          <p:blipFill>
            <a:blip r:embed="rId5"/>
            <a:stretch/>
          </p:blipFill>
          <p:spPr>
            <a:xfrm>
              <a:off x="5722920" y="4172040"/>
              <a:ext cx="2025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43"/>
            <p:cNvSpPr/>
            <p:nvPr/>
          </p:nvSpPr>
          <p:spPr>
            <a:xfrm>
              <a:off x="6172200" y="8091720"/>
              <a:ext cx="1752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1b9"/>
                  </a:solidFill>
                  <a:latin typeface="Arial"/>
                </a:rPr>
                <a:t>Passive Transpor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44"/>
          <p:cNvGrpSpPr/>
          <p:nvPr/>
        </p:nvGrpSpPr>
        <p:grpSpPr>
          <a:xfrm>
            <a:off x="7745400" y="4172040"/>
            <a:ext cx="1322280" cy="4286160"/>
            <a:chOff x="7745400" y="4172040"/>
            <a:chExt cx="1322280" cy="4286160"/>
          </a:xfrm>
        </p:grpSpPr>
        <p:pic>
          <p:nvPicPr>
            <p:cNvPr id="92" name="Picture 45" descr="0505_E copy 4"/>
            <p:cNvPicPr/>
            <p:nvPr/>
          </p:nvPicPr>
          <p:blipFill>
            <a:blip r:embed="rId6"/>
            <a:stretch/>
          </p:blipFill>
          <p:spPr>
            <a:xfrm>
              <a:off x="7745400" y="4172040"/>
              <a:ext cx="1273320" cy="38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6"/>
            <p:cNvSpPr/>
            <p:nvPr/>
          </p:nvSpPr>
          <p:spPr>
            <a:xfrm>
              <a:off x="7848720" y="8091720"/>
              <a:ext cx="1218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1b9"/>
                  </a:solidFill>
                  <a:latin typeface="Arial"/>
                </a:rPr>
                <a:t>Active Transpor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47"/>
          <p:cNvSpPr/>
          <p:nvPr/>
        </p:nvSpPr>
        <p:spPr>
          <a:xfrm>
            <a:off x="5794560" y="3962520"/>
            <a:ext cx="28202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3356640" y="6172200"/>
            <a:ext cx="2616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ilic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9"/>
          <p:cNvSpPr/>
          <p:nvPr/>
        </p:nvSpPr>
        <p:spPr>
          <a:xfrm>
            <a:off x="5867280" y="6400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0"/>
          <p:cNvSpPr/>
          <p:nvPr/>
        </p:nvSpPr>
        <p:spPr>
          <a:xfrm flipH="1">
            <a:off x="7009920" y="4419720"/>
            <a:ext cx="3049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0" y="1219320"/>
            <a:ext cx="403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por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act as enzymes (periphe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l trans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gnition prot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ten cells to adjacent ce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 hidden="1"/>
          <p:cNvSpPr/>
          <p:nvPr/>
        </p:nvSpPr>
        <p:spPr>
          <a:xfrm>
            <a:off x="403200" y="1577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rane proteins and thei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7" descr="07_09-MembProteinFunction-U"/>
          <p:cNvPicPr/>
          <p:nvPr/>
        </p:nvPicPr>
        <p:blipFill>
          <a:blip r:embed="rId1"/>
          <a:stretch/>
        </p:blipFill>
        <p:spPr>
          <a:xfrm>
            <a:off x="3836880" y="1295280"/>
            <a:ext cx="5307120" cy="5045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8"/>
          <p:cNvSpPr/>
          <p:nvPr/>
        </p:nvSpPr>
        <p:spPr>
          <a:xfrm>
            <a:off x="3879720" y="3333600"/>
            <a:ext cx="9367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5005440" y="2971800"/>
            <a:ext cx="70956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0"/>
          <p:cNvSpPr/>
          <p:nvPr/>
        </p:nvSpPr>
        <p:spPr>
          <a:xfrm>
            <a:off x="5734080" y="3328920"/>
            <a:ext cx="148284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Enzymatic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6184800" y="1689120"/>
            <a:ext cx="97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7562880" y="3333600"/>
            <a:ext cx="15699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Signal trans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3"/>
          <p:cNvSpPr/>
          <p:nvPr/>
        </p:nvSpPr>
        <p:spPr>
          <a:xfrm>
            <a:off x="7696080" y="1184400"/>
            <a:ext cx="136044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naling molec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4"/>
          <p:cNvSpPr/>
          <p:nvPr/>
        </p:nvSpPr>
        <p:spPr>
          <a:xfrm flipV="1">
            <a:off x="8020080" y="1569960"/>
            <a:ext cx="20808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5"/>
          <p:cNvSpPr/>
          <p:nvPr/>
        </p:nvSpPr>
        <p:spPr>
          <a:xfrm>
            <a:off x="8475840" y="1714680"/>
            <a:ext cx="89676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6"/>
          <p:cNvSpPr/>
          <p:nvPr/>
        </p:nvSpPr>
        <p:spPr>
          <a:xfrm flipV="1">
            <a:off x="8288280" y="1784520"/>
            <a:ext cx="152280" cy="12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7"/>
          <p:cNvSpPr/>
          <p:nvPr/>
        </p:nvSpPr>
        <p:spPr>
          <a:xfrm>
            <a:off x="3884760" y="5513400"/>
            <a:ext cx="15904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d) Cell-cell recog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8"/>
          <p:cNvSpPr/>
          <p:nvPr/>
        </p:nvSpPr>
        <p:spPr>
          <a:xfrm>
            <a:off x="5729400" y="5513400"/>
            <a:ext cx="15382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) Intercellular jo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7238880" y="5541840"/>
            <a:ext cx="18385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) Attachmen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extracell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rix (EC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rane perme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sma membran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lectively perm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1" descr="0506"/>
          <p:cNvPicPr/>
          <p:nvPr/>
        </p:nvPicPr>
        <p:blipFill>
          <a:blip r:embed="rId1"/>
          <a:stretch/>
        </p:blipFill>
        <p:spPr>
          <a:xfrm>
            <a:off x="88920" y="1708200"/>
            <a:ext cx="896472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21:35:45Z</dcterms:created>
  <dc:creator>Alison Varty</dc:creator>
  <dc:description/>
  <dc:language>en-US</dc:language>
  <cp:lastModifiedBy>Morgan karas</cp:lastModifiedBy>
  <dcterms:modified xsi:type="dcterms:W3CDTF">2010-12-09T00:05:25Z</dcterms:modified>
  <cp:revision>11</cp:revision>
  <dc:subject/>
  <dc:title>Organization of cell membranes</dc:title>
</cp:coreProperties>
</file>